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8AE-3D38-4A7F-B8A4-B7B9E423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097-F9F3-40CC-84DE-51D6CEE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77805-C7E4-45D2-BCB2-E841B9AF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9433F-868F-40FF-BEAC-5C4FA44F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34636-36AA-4AC2-A924-7B2ACB63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29998-ED2A-48A3-8FF4-8B1198C0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82819-4015-414A-9045-E69E32B2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BDA13-94F5-4BE1-AAB5-9E264FC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A1D25-A7BE-4622-BF91-0985F1DB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F1ECB-DA31-49CD-BBF3-67F5922C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0E9C5-A54C-4DC0-8D40-B188C4FC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BEDFE5-A974-4858-9D76-6C79A2DC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0F7-FE39-4FBA-BBED-8F664EF3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C1E2A-6CC3-421C-A7AF-5A5B72DD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1A15E-3BBB-48F1-AB59-7FD84B65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FF4F4-6D95-4BF8-97C3-DC30A46C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178D2-7B26-44D1-A593-6449920B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4119E-DEC7-4C7C-9A41-BE19C64A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33368-BD1D-475A-BE7B-4FD03A52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3A461-B1EB-4F45-8F12-37F4E183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5A4A7-8E61-40ED-8221-978E5EE4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B254F-265F-47DB-B8B1-3A255832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85564-2CB5-4E97-9F54-933B402F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C01-8A92-405C-ACFE-7AC4D967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D13DC-6DB2-4CAC-948F-01AB6F94E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3509D-1557-4674-8EFA-B483F07A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31980-5376-4FBD-B857-521E597A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37B6-06BF-44E0-BE48-530B1C03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1F40E-F9C0-4250-840D-B6C4074E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4DE6BB-7A6E-400F-A008-925F7742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E52D9-0251-4366-B144-F471B08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1D179-65BA-4DEA-B181-FEE621B2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C9EA2-74F7-4D7C-938B-92D05B69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C8896-E2C2-4C98-B662-7717DC3E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B4A-13EB-409C-B327-2FD53EEFD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EF3E7-D080-4B8F-B1D3-211191A6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DBEFB-D081-458E-8B2F-3C80A586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45E4C-7B8A-4A6A-9EE8-3022695C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D0BDC-3E59-45F7-8C52-21FB0033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4F445-DF5E-4C93-8A4B-C950E63C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FB4CB-8180-4AB3-A73A-E40B854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E1705-E9E5-444A-8E95-11A092EB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868F1-BE4A-43D6-876A-2642A650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CA19A-F764-4455-99DA-78E61B7A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4940B-7E7B-44C0-BB0C-1DD2042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940D-1A5E-45A8-8C28-58D8E4E4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5D1B8-8D9E-4277-AF7F-C5D437EC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E8A63-0AE8-4C27-8C2B-AE9BA795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48D0F-55D5-47C7-8BDE-4DEADCC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DC2A8-E5BA-4469-9138-5F55CDD1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87426-4855-4E67-8AF6-176B7FA0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73B64-2462-4104-B307-2318F979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4735E-749D-4370-B97B-6773B62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8CBC7-D695-4908-A202-76A7AC6D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791D8-78A2-4160-8228-385CB2BB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261B1-37FC-4718-AB51-627DD050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8439-C860-4D16-AFBC-A8B10725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168EB-76B7-403B-ABCB-3331F098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1210F-8A0E-43EC-BB88-AB5064D4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90B55-8A23-40AE-806C-1346F25B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05055-B0FF-4EF9-997B-4F1C329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BE2E1-3384-49E9-9DF6-ADC5D4D7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FCB04-C3FE-46F2-B56E-D0FFFF76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8BD2F-CEA7-4091-BF16-551C5A03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318990-D03F-4C4C-909A-44D10098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6870A-835D-4CB4-A095-F7597B8B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936E27-140E-45CE-B873-C332B2E3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6FCD-BBB8-4D32-A93E-41374246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723C08-506B-479D-B2DC-F95D3BAA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20CCC-F671-41A8-A1A6-CD911A2D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17BAA-9A96-4C58-9C4A-73702960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C4CB1B-5117-4332-89BD-3D32D241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CD06D-6583-4ADC-8D8C-A914997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10FB09-4B92-41EB-AF64-9A70A688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FFABB-F2EF-4264-AF3A-3A969571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604500-90F6-4710-B230-F93DA6E8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3E86B-5607-4061-A834-83B662D4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9A75F-832A-4AEF-9895-D20D5D42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ACBE-8894-4CE9-9833-AECDB71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9433A-BC62-4E73-8943-8AA40E52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1EBCD-C770-46EC-98BE-9A8A2D6C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5AFB3-9ECF-40B2-8FAE-C23A8D8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D9EAD-7A76-43A8-94EF-3301200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B246D-C608-4186-BF28-1190049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33743F-3C61-4573-9494-B7A72278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EB517E-9D06-4F47-A5C8-C1723C17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28E33-0564-46B4-80B5-32F59B6F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9EE41-25E2-4B1A-A2BD-2E44C18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F79493-FAD6-4E4E-9877-78EFA416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58DD-4F36-47F2-B1A0-8BD34C53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40C064-822B-4560-A90E-0DC827597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92C485-AA17-46EC-91A6-9A7378BD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E62C13-46D5-42D9-8BDF-92DA2EE6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CB154-8A79-4CE0-B98F-EEC48487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79994-E692-465E-8BA9-5AE196A1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93D17-8122-42D0-A9FE-4142B152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2C6E86-9143-4055-BEA2-38CD4BBA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4FEEB1-E82A-4FAC-8274-81623A05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EA360-6C97-4356-9CE7-0FDE782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A62616-9455-4FC1-8E3B-64ED18B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E812-9C66-4FBF-9B7C-BFE27746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083DF0-D7CA-4432-9123-56D626B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0A4496-FA8E-44EF-8E8D-F98C82915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709EDF-765C-4AC2-B87B-02CE86E6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48CE1E-7EC2-4ACD-B17F-E9B8A29E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94CFF-8D50-43E6-8741-A65D45B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C89CF6-25B8-4852-8071-2F66F1FF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869770-A122-46A1-A287-6802EE62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00CD0-374B-438F-B3B7-5A43231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783328-DDA7-414D-84B8-B2A37570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DE5E4-B19A-4D1D-ADC1-AAB43B5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6F8-1DD6-4667-935C-394F9EB2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E5D5-A233-4DD1-B535-F35E348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1EE6BC-A3C5-4718-9CA9-141DDC3A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CC848C-282F-40CF-9D37-CCA25EF8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CEA6D2-163A-47B3-B959-804496E1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139E2-06BE-4C04-A80A-13F7F4E7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067C38-5945-4A17-A2D2-4FF366ED3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6E09CC-8F32-4F57-BF61-B5AC8401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27014-189D-4A8B-B11A-0FCDC0A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E2351-5A62-4FA7-8255-0105629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F96F0D-B276-4934-AE05-173B8F0F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99B1CA-E92B-4C50-862C-83653B88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3EF0-03F3-48F2-A5D0-609F1A55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7DE3E-3A34-440E-8C2F-AD5C2CC2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5E5011-07F3-4E3B-ACFF-2D003D8A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CAB452-5953-4D64-86ED-1B976433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46DFAC-415A-4618-95C0-E7FE28A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CE39F-ACE4-4A54-978F-CDB86640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1324E-54A8-484D-9376-13EC8F39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8B5A07-4AE2-4EEE-AC25-4BB24F31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0A950-8E7E-491B-84E9-D367FDDA3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34873-9333-46C1-8258-45A9C763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34ADA1-7A3A-434D-B9E6-F037DBB7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2E48-6D5D-471C-A85D-632AC24A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A4A8CB-121E-4DCA-9E02-3F36FE4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478A47-1F9C-48F7-8B7D-1E4857C6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4C384B-8FF1-488B-B460-8AC02B2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34275C-6102-4101-A8DB-A2B62F21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F4B300-9F50-40FA-A150-DDC426D1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F5298-794F-4F9B-8C61-918940E2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D7227E-E9D3-4D03-8777-D89C23F7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43FBFF-9CCC-40E2-AA70-437C7DB5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EF7975-888C-4835-8AFF-E7959A98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BE3EE2-2358-4165-AC7E-7EDF30CF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C2D-0481-47EC-8B40-D769946A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A6226-9D3F-49C8-9A77-117E48B8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593DBF-C0FD-4E71-ADEF-F4F2B69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3AED42-F00C-4021-9DD6-ED678FB5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C37BA8-5302-4259-A635-8CA49206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84C81D-B5E2-4F23-958D-3CB9A430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4A10E3-422F-400D-8CA9-D172C988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8221D-67CC-4D89-8A05-50FF99A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D709CB-8100-4D98-B2E1-49866D6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5A609D-C663-46BA-A4C4-B208B07F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DFAC1-388A-48DD-92F9-53FA78F2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47A1-0ED3-4AD9-93AA-CCE59EB8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7EE1D-CCFF-4464-B5B6-15CA0C6E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20888E-E9CB-46F5-BC32-1FCC528D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65D30-EF1F-4922-A910-9AA4F498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0AA1C-49C2-4947-B807-494A739E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629939-7233-43DB-AB58-375D8ECF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27DA1D-083B-47B0-8BEA-F6C045AE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925C05-3667-4E2A-BF5F-B0318882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174E2A-E589-4628-9B68-208FD088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154F3-25DF-456E-AC73-131BB16F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7DD79A-EDFD-4539-8F06-D314302D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2677-F515-4CCB-98B4-F6EB703F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7A1F1-0A28-41BC-9669-1B9CE96D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34CA8D-955D-4EF9-8FA9-86A02567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87B67-9929-4221-BB03-2DC71A83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3DD40-E831-4C3D-8EC6-3A8E019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1E1D2-011A-4D0C-B44E-B4CE99AE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4514-7278-45D2-9020-4BA947CB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3D9F-3A0D-4B2C-BA9F-A4DFEC6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CF91-1E66-4222-8816-17272781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539A4-3B1C-4C2F-9E7E-C06F284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2BCB0-D6BB-43C9-AC18-E03E98FA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C8043-8A8D-4C8F-BEB2-607C42E7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B83B7-6861-4FE1-A997-3EF4EB94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6FEE-2F96-4B10-A7F2-0C02C499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99554-7A90-4D35-A128-8BCF230E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785DE-5760-4E2B-B62D-A7F4CEBA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9A9E4-C6E5-4E1D-88A5-CD7E9856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24EA0-5A58-46AC-8D5C-EA4A11A9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3A491-1B54-4B9D-A26A-721887E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4A1-B8D8-4B70-BDA4-3C03CA61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0DB61-2F39-4F59-836F-679987CE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887AE-D80A-4FC3-B868-AD02FAA4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C03A7-0601-437B-BB10-F4418F8C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09E06-8A5B-4901-B63C-C8253B9C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1B25-6118-4249-8E83-573E7CF8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56893-E2A8-4EB3-9340-C2A09E23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F432B-A728-4848-BCA0-01E7568B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33530-24B1-4A08-BF47-05DD78345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D5E2-2578-4EE6-94C1-B62C9511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E567-8B59-4683-B125-3C5678CC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200-F4E0-4523-914E-46DE7F3E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4DE1-0308-4B07-A12B-493D1108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7D22A-D8D4-486C-8D6F-200E39AB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CE4C7-D0B7-4170-A438-1EE95B46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0434A-DB99-4D43-B9E4-0237694B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490F7-F1AE-4E25-BBBA-6AE7F924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4CBE-F616-469D-A2CC-227A6193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C5E0-974F-4B6C-8A6F-1440F8EB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1120-A09D-4093-9FBF-45992BE7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1600-B765-489C-838B-7FBFD97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3CEC1-F96C-400E-B170-9EB55DDCA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9783-6289-4355-B153-ED2C75A2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413A-7C28-46DC-B2F7-D0655C16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B2774-9C14-45DF-AE2C-709F4960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08890-CA15-4416-962D-62E48987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8C838-C129-4A64-9FF7-9B76024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DB1EA-E534-47FC-83B6-CA7FC147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245F-9CC2-4E54-B891-7891C769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C16B5-EE32-4268-9213-5E3119E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BCBD7-CE27-4FFC-B051-C7EBF6B9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3BD7E-8AB9-4F85-A429-8B4ADB33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A08AE4-701C-46A8-A872-B87EF233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DC8E-929F-4C89-81D1-460089CD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FF83A-6333-46DB-B017-AF996068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7F98C-155F-4347-B2AA-53ACD8614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0490D-D7D8-4A2E-A0E0-7E602C14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53F3B-EC39-4932-B9E3-46BA7685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84DEB-03F2-407E-878B-9E3A1294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7B8EE-ABBF-444B-B6C9-691FF8A1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267AF-EBE2-48A5-B08D-F413F4F6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77F58-9D4A-4AC9-8EF9-756B0BBB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07022-1827-4B22-895F-63A95F5F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DA179-7E9D-4B5B-82D6-FCCEC47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F9AF-7CF2-42B2-9709-123DAE9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2AA8E-96D6-4287-BCA5-16CCC2F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51B4-63DA-44AC-B7FA-5F5FE5F8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7890-A37A-4214-B023-88E34F5B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BA60-865D-4B97-981C-C0899CDB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54DA-2379-441C-B2B3-71BDBE8D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42430-9909-4344-ADF1-0E1A94FE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71B40-050F-42A9-96DA-69F069F4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52174-BF20-4035-BBC2-D49FAAB2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37199-7D8D-4733-A7D2-75433B1D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4C10F-9E1C-4B10-9E0D-FE9EDC48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650-9BA1-4D2D-989B-ED9A596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37195-ECAD-4C79-8F5B-01282E68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3B86A-811C-4EC7-9492-D19BF1CC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F78BE-71DF-42F5-8C85-73248925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30C09-EABB-4D9B-95B9-8A0BFC6D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876F9-6750-4A51-AFF4-EBFD9F6D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BD5E7-E2EA-4FD4-8774-6225C47E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7D2BF-C480-4AD0-A473-D3545B0A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E921E-4807-410F-9B46-C101CF1F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59F07-149B-4A8E-BB0B-C6F08FF1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E80AB-B56A-4704-A46B-5B2B90A7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0FB-00DA-48FA-B451-A900881CA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4A3B-4539-44B4-80D0-A3F9245BEC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C1E4-833E-4D4F-85DA-8AA138C8D3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4397-1EB7-4D65-81C0-7765EAF649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575-4D9C-4258-B5B4-1ADD9D434E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CC9E-306C-41BA-9E7F-4218C04400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4AB2-9443-41CD-BDB8-86AFE33FE5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5150-CDB5-4338-93FB-4C041E63F9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0DAF-6447-4837-992F-12162A32B0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E34C-1E49-4C2C-9D7A-88A7124207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09FF-D479-48B4-9BD9-DE422B19B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D3B-6BC6-4F09-B963-0EC967B1F8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8D47-4E7E-46AB-B901-8C7193A75F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B254-7215-47EE-BF47-2CEACBC371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EB9B-2F0D-48EF-909F-3A0110B46F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C7A6-6C2B-42A2-A8FA-0B4F63948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7E37-073C-4DA2-88C9-EE5D607098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C728-0555-4A98-9F13-69D5079F6F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548-9375-4AC7-A3AA-D10FC9163D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CD4-A62C-45BF-BE87-8E9CC75D36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5452-EE04-4CE5-AFE4-20B1831AD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3B9C-A72A-42D5-B3F0-A998B28BA8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69DB-5D8C-4B8B-88B0-EC52D32A2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6F6C-51EF-401D-8CBD-6B25BB76F0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045A-C479-4AEC-9C21-300FD665F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5D77-712A-46A0-86E5-750D9CC199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9D8A-0809-4559-8BE2-D37456D5B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6383-1A95-437C-BC80-A6D2D246A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4C32-33C8-4270-BFC9-ACB72C0C14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06E4-613F-4B4C-A42B-A7E201863C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46D-91DB-426D-8EFC-D14B3DA0C8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60A7-1070-44D2-9292-1C51CD39F9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C65-AF1D-4774-B72E-731C4994A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F054-79CB-4255-BFEB-E0F61BFC9A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A9E5-5F6D-4067-820E-7A08BFB101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1FEF-DD33-42FA-A842-37FFA61236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C615-C7DE-4A10-BE63-5F95E285A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8265-A134-46B7-8B68-DA1ECC8B3B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6C60-4AC1-4588-8F8B-7A36DA7B7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FBF6-C2F3-4160-99CA-2E1F56F45C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835280" y="3141720"/>
            <a:ext cx="549432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290520" y="765000"/>
            <a:ext cx="8562960" cy="60487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2319480" y="190656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300720" y="1916280"/>
            <a:ext cx="1224000" cy="293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1979640" y="2276640"/>
            <a:ext cx="1512720" cy="2934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7297560" y="228132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2484360" y="2666880"/>
            <a:ext cx="1511280" cy="2937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7297560" y="2662200"/>
            <a:ext cx="1224000" cy="2937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2916360" y="3043080"/>
            <a:ext cx="1511280" cy="2937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9"/>
          <a:stretch/>
        </p:blipFill>
        <p:spPr>
          <a:xfrm>
            <a:off x="7885080" y="3036960"/>
            <a:ext cx="996840" cy="2937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10"/>
          <a:stretch/>
        </p:blipFill>
        <p:spPr>
          <a:xfrm>
            <a:off x="3089160" y="3422520"/>
            <a:ext cx="1511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11"/>
          <a:stretch/>
        </p:blipFill>
        <p:spPr>
          <a:xfrm>
            <a:off x="7885080" y="3422520"/>
            <a:ext cx="99684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12"/>
          <a:stretch/>
        </p:blipFill>
        <p:spPr>
          <a:xfrm>
            <a:off x="2268360" y="4581360"/>
            <a:ext cx="1872000" cy="2937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13"/>
          <a:stretch/>
        </p:blipFill>
        <p:spPr>
          <a:xfrm>
            <a:off x="7010280" y="456084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14"/>
          <a:stretch/>
        </p:blipFill>
        <p:spPr>
          <a:xfrm>
            <a:off x="2340000" y="494496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15"/>
          <a:stretch/>
        </p:blipFill>
        <p:spPr>
          <a:xfrm>
            <a:off x="6310440" y="494496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16"/>
          <a:stretch/>
        </p:blipFill>
        <p:spPr>
          <a:xfrm>
            <a:off x="1835280" y="5316480"/>
            <a:ext cx="1873080" cy="293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17"/>
          <a:stretch/>
        </p:blipFill>
        <p:spPr>
          <a:xfrm>
            <a:off x="6442200" y="532116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18"/>
          <a:stretch/>
        </p:blipFill>
        <p:spPr>
          <a:xfrm>
            <a:off x="1967040" y="5692680"/>
            <a:ext cx="18730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19"/>
          <a:stretch/>
        </p:blipFill>
        <p:spPr>
          <a:xfrm>
            <a:off x="6516720" y="569736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0"/>
          <a:stretch/>
        </p:blipFill>
        <p:spPr>
          <a:xfrm>
            <a:off x="2771640" y="6076800"/>
            <a:ext cx="1871640" cy="293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21"/>
          <a:stretch/>
        </p:blipFill>
        <p:spPr>
          <a:xfrm>
            <a:off x="6443640" y="6087960"/>
            <a:ext cx="1873440" cy="2937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22"/>
          <a:stretch/>
        </p:blipFill>
        <p:spPr>
          <a:xfrm>
            <a:off x="1763640" y="6453360"/>
            <a:ext cx="1871640" cy="29340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"/>
          <p:cNvPicPr/>
          <p:nvPr/>
        </p:nvPicPr>
        <p:blipFill>
          <a:blip r:embed="rId23"/>
          <a:stretch/>
        </p:blipFill>
        <p:spPr>
          <a:xfrm>
            <a:off x="6443640" y="6448320"/>
            <a:ext cx="187344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2:14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